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F6B15-CBF8-40AB-A34D-0B16C855F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E0F99-A887-435D-BDF9-368754111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43D3C-BAA4-4F66-B684-3A4BFAC21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27EFB-8718-4075-AD25-44649D316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11002-F3D4-4E0F-AC1A-21BD7A98A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9AECC-A33E-4955-88F6-F007411C6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40CCC-D878-43E2-AB26-BA62DAAA9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8500E-8192-4BBE-921F-43CB82817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C0E0A-1B99-491A-9263-C5F229072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CBAEC-6535-4C26-8A2C-1288BC8F5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D9CF5-7715-4F61-81A6-0BBEF056D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9DA8C-025A-4C74-8DC0-833D1F7AF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84212-2E8E-4229-B65B-50FA7CF95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7065A-E299-43C9-954B-9AA07595B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602EB-E21B-4908-872C-6F239DF89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37C36-9814-4C0F-B759-CD3C2A3C2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EAF21-61CB-4B3C-983F-15D0F2CD2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8946-6C2E-48D0-9A04-490E12BB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6448C-85C1-4178-BF4B-8FD02FF7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E8DA5-D3FF-4398-AAEF-0EF607E59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AF11A-F031-4006-A6E7-CA7123147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DABBA-8CBF-45CF-A2A4-4E6DBA33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5BF0A-30A0-406F-B9A1-83434BAE9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9CABE-5B4A-4494-8B9E-59E428EC1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7011-49A2-40C9-8941-0B8AD0800D5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DEAE-4CEF-4FB4-B145-5CD11202B76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mailto:hzumaeta416@renaissancecharter.org" TargetMode="External"/><Relationship Id="rId2" Type="http://schemas.openxmlformats.org/officeDocument/2006/relationships/hyperlink" Target="mailto:trcsdennis@gmail.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Proposito # 33 - </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panish speaking Country Research projec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fecha es el 5 de enero del 2012</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roduction</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and your partner are Public Relations wizards and were hired by a Spanish speaking country government to promote tourism.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presentation should include images of interesting places in this country, pictures of the people from that country, monuments, natural wonders, events, festivities et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nd your partner must convince the rest of the class that your country is the better than the rest. At the end of every presentation, the class will vote on the best demonstration. The winning pair will earn a priz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re is one thing you should keep in mind when doing your research and organizing your PowerPoint (of at least 15 slides), is to try to convince your peers that your country is the best one. Make them want to visit that country. It is a conte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read the rubric and keep them in mind while both creating and presenting your projec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sentation will be graded not only in content (information), but also on how well is put together, choice of illustrations and images, organization of the information, the way it is presented to the class (acting as the United Nations), and overall impression to the audience. After all you both are P.R geniuses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outline </a:t>
            </a:r>
            <a:r>
              <a:rPr b="0" lang="en-US" sz="2000" spc="-1" strike="noStrike">
                <a:solidFill>
                  <a:srgbClr val="ffffcc"/>
                </a:solidFill>
                <a:latin typeface="Tahoma"/>
              </a:rPr>
              <a:t>(feel free to tweak it)</a:t>
            </a:r>
            <a:endParaRPr b="0" lang="en-US" sz="20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help you get started, the following outline could be used to both conduct your research and your presentation:</a:t>
            </a:r>
            <a:endParaRPr b="0" lang="en-US" sz="28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a:t>
            </a:r>
            <a:r>
              <a:rPr b="0" lang="en-US" sz="2400" spc="-1" strike="noStrike">
                <a:solidFill>
                  <a:srgbClr val="ffffff"/>
                </a:solidFill>
                <a:latin typeface="Tahoma"/>
              </a:rPr>
              <a:t>	</a:t>
            </a:r>
            <a:r>
              <a:rPr b="0" lang="en-US" sz="2400" spc="-1" strike="noStrike">
                <a:solidFill>
                  <a:srgbClr val="ffffff"/>
                </a:solidFill>
                <a:latin typeface="Tahoma"/>
              </a:rPr>
              <a:t>Forms of governmen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of president/dictator/ruling group/political party; Flag with meanings behind it.</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I</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ackground</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story</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genous group</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ous explorer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nguages spoken besides Spanis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a:solidFill>
                  <a:srgbClr val="ffffff"/>
                </a:solidFill>
                <a:latin typeface="Tahoma"/>
              </a:rPr>
              <a:t>III Geographical makeup</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asts, mountains, deserts, valleys, etc.</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pulation</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V Economy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 imports/export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icultur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uris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etary system</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 Customs and Tradition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igion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jor national holiday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ical food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 Include interesting, intriguing and/or unusual findings about this country.</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clusion</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include images that make your classmates want to go to the country you were assigned. The presentation should be between 4-6 minutes in length, so be sure to have enough information to fill this time slot. Remember, you are trying to PERSUADE your fellow students that your country is the best! Your presentation should be lively and colorful to grab their attention. Maps of the country, pictures of famous places or landscapes are all great ways to keep them engaged.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tra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ease add a bibliography slide to inform us of the resources you used for your presentation.</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el free to bring in any artifacts, food, etc. Your verbal presentation SHOULD NOT be what is written in the PowerPoint Presentation.</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should hand-in the notes for your verbal presentation along with a print-out of your PowerPoint.</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finished, you should E-MAIL your presentation to:</a:t>
            </a:r>
            <a:endParaRPr b="0" lang="en-US" sz="28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HELEN (</a:t>
            </a:r>
            <a:r>
              <a:rPr b="0" lang="en-US" sz="2400" spc="-1" strike="noStrike" u="sng">
                <a:solidFill>
                  <a:srgbClr val="a3c145"/>
                </a:solidFill>
                <a:uFillTx/>
                <a:latin typeface="Tahoma"/>
                <a:hlinkClick r:id="rId1"/>
              </a:rPr>
              <a:t>hzumaeta416@renaissancecharter.org</a:t>
            </a:r>
            <a:r>
              <a:rPr b="0" lang="en-US" sz="2400" spc="-1" strike="noStrike" u="sng">
                <a:solidFill>
                  <a:srgbClr val="ffffff"/>
                </a:solidFill>
                <a:uFillTx/>
                <a:latin typeface="Tahoma"/>
              </a:rPr>
              <a:t>)</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NIS (</a:t>
            </a:r>
            <a:r>
              <a:rPr b="0" lang="en-US" sz="2400" spc="-1" strike="noStrike" u="sng">
                <a:solidFill>
                  <a:srgbClr val="a3c145"/>
                </a:solidFill>
                <a:uFillTx/>
                <a:latin typeface="Tahoma"/>
                <a:hlinkClick r:id="rId2"/>
              </a:rPr>
              <a:t>trcsdennis@gmail.com</a:t>
            </a:r>
            <a:r>
              <a:rPr b="0" lang="en-US" sz="2400" spc="-1" strike="noStrike" u="sng">
                <a:solidFill>
                  <a:srgbClr val="ffffff"/>
                </a:solidFill>
                <a:uFillTx/>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3:44:49Z</dcterms:created>
  <dc:creator>NYCDOE</dc:creator>
  <dc:description/>
  <dc:language>en-US</dc:language>
  <cp:lastModifiedBy>Helen Zumaeta</cp:lastModifiedBy>
  <dcterms:modified xsi:type="dcterms:W3CDTF">2012-01-18T19:45:19Z</dcterms:modified>
  <cp:revision>6</cp:revision>
  <dc:subject/>
  <dc:title>Proposito # 32 - </dc:title>
</cp:coreProperties>
</file>